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51675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524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353600" y="650520"/>
            <a:ext cx="4343400" cy="32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8E08-4BE1-4CED-AFB0-CC53DC478C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398F-B46D-4A8F-849A-0540558930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9203-5AA0-4505-B9FC-750AC3C81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279B-5009-4097-9250-4BAE05E0A7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4BF7-A900-4066-B0AA-5374AA6E2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6FE0-6FC2-4B83-AF24-7B5E32A8CB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D81E-BAFE-4BB2-9652-C16AE648C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9F2D-5FF5-4ADD-96FF-3A87905C62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B52F-85A6-4417-92FC-D02DE88DF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EB4E-60EE-4F38-B093-420C95746B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C3D4-C314-4AAF-BC39-2396BAAC5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3328-6E20-43C5-8EDB-ED91BD2FA6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4BF2-FADD-4FBC-B34B-2266003E3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5342D-E816-466A-B31A-65EE5951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01DF0-5EBD-4A3F-94F4-965FE7AB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43082-8834-4EAC-A271-53EFEB94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3D559-3BCF-4BBE-9C94-2A55AC28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83B1-E51B-4CC0-AC49-31534025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10A8-2739-4D2D-A725-4EC44E4D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30EA-5A96-4EAE-A549-1547D34A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3DA6-89CA-4B49-95B0-0ECF74C7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1DFC-B494-45C8-BCC9-7126FA56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8B39-823F-45C2-9424-B263F7C4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5052-2793-4062-88B0-2B609247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6B630-4614-4EB8-AF72-B20AC215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92E3-0295-4210-AA65-3101BAD7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7CC0-5A7F-4A47-B42B-853D5D1B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43C4-168A-4249-996F-939D14E9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0612-CCA3-4EB1-9AE4-1F93191D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F212-D782-4A9C-B9A6-9C6D4694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B4E3A-D412-414A-A71D-47A8A13A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A636B-744C-44BA-96E9-65602931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1C2E8-B24F-422C-92CD-15C0F012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588E5-19AE-4054-A811-29165D80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73FBC-5EE9-4F74-8FD4-B05473C2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39725-F6C5-4AAC-B340-D93C53E1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2DE22-7C5E-4806-B7F1-1F979403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329E-2562-4D68-A4F9-D9117273A7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AA3B-7C12-455D-8A78-D99CC5144E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The Study of Change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0408-1B2F-4D47-89E1-5BA5D196EF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hysical or Chem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phys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es not change the composition or identity of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ice melting or salt dissolving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chem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anges the composition or identity of the substance/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hydrogen burn in air to fo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19320" y="4876920"/>
            <a:ext cx="6476760" cy="1981080"/>
            <a:chOff x="1219320" y="4876920"/>
            <a:chExt cx="6476760" cy="19810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rcRect l="0" t="13748" r="0" b="0"/>
            <a:stretch/>
          </p:blipFill>
          <p:spPr>
            <a:xfrm>
              <a:off x="4046040" y="4876920"/>
              <a:ext cx="36500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219320" y="5564880"/>
              <a:ext cx="240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ydrogen burns in air to form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5FDBD-3C54-4A92-BC28-54D5FE07C4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8"/>
          <p:cNvSpPr/>
          <p:nvPr/>
        </p:nvSpPr>
        <p:spPr>
          <a:xfrm>
            <a:off x="457200" y="36504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Measurements and Un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0880" y="1371600"/>
            <a:ext cx="8382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surements of Macroscopic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croscopic Properties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.g.: length, weight, temperature,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D2ED2-A2FD-4B98-B20A-137EFF57B5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304920" y="4572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I Units: International System of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6000" y="1916280"/>
            <a:ext cx="8748720" cy="35319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CBED6-47BF-4679-9AA8-15E6D24DF0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Content Placeholder 3"/>
          <p:cNvSpPr/>
          <p:nvPr/>
        </p:nvSpPr>
        <p:spPr>
          <a:xfrm>
            <a:off x="228600" y="1371600"/>
            <a:ext cx="48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unit of ma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The 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The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c) The 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The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57200" y="3808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tent Placeholder 3"/>
          <p:cNvSpPr/>
          <p:nvPr/>
        </p:nvSpPr>
        <p:spPr>
          <a:xfrm>
            <a:off x="4648320" y="137160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Kg is the SI uni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b)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C8C32-4E1A-4142-95F7-A588BF751A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95" descr="01_03"/>
          <p:cNvPicPr/>
          <p:nvPr/>
        </p:nvPicPr>
        <p:blipFill>
          <a:blip r:embed="rId1"/>
          <a:srcRect l="0" t="3312" r="0" b="0"/>
          <a:stretch/>
        </p:blipFill>
        <p:spPr>
          <a:xfrm>
            <a:off x="228600" y="1297080"/>
            <a:ext cx="8686800" cy="47307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151" name="Right Arrow 5"/>
          <p:cNvSpPr/>
          <p:nvPr/>
        </p:nvSpPr>
        <p:spPr>
          <a:xfrm>
            <a:off x="380880" y="3809880"/>
            <a:ext cx="5943600" cy="76320"/>
          </a:xfrm>
          <a:prstGeom prst="rightArrow">
            <a:avLst>
              <a:gd name="adj1" fmla="val 50000"/>
              <a:gd name="adj2" fmla="val 4975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343400" y="3276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Up Arrow 7"/>
          <p:cNvSpPr/>
          <p:nvPr/>
        </p:nvSpPr>
        <p:spPr>
          <a:xfrm flipH="1">
            <a:off x="5105520" y="2438280"/>
            <a:ext cx="411120" cy="129564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own Arrow 9"/>
          <p:cNvSpPr/>
          <p:nvPr/>
        </p:nvSpPr>
        <p:spPr>
          <a:xfrm>
            <a:off x="5105520" y="4038480"/>
            <a:ext cx="380880" cy="152424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380880" y="3049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4EA47-D95D-48DA-99C8-BD70007452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6320" y="1295280"/>
            <a:ext cx="90676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prefixes giga- and micro represent, respectively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80880" y="44136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0AE1F-2E3E-4C21-B9B0-D78558EF98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Base Unit  (e.g. km → 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refix (e.g. m → k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Prefix (e.g. km → n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FDB66-FF6C-44C0-A42F-D58B2CB225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Bas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e.g. 6km → ?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(km is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from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.g. 6m → ? k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m (m is 10</a:t>
            </a:r>
            <a:r>
              <a:rPr b="0" lang="ar-SA" sz="28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km (reverse the power sign from the table 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e.g. 6 km → ?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6 x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 </a:t>
            </a:r>
            <a:r>
              <a:rPr b="1" lang="en-GB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 (-9)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= 6 x 10</a:t>
            </a:r>
            <a:r>
              <a:rPr b="0" lang="ar-SA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(km is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 put negative sign (the nm is 1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E8FF8-F8F3-4CFB-A197-6D1457794C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t Placeholder 1"/>
          <p:cNvSpPr/>
          <p:nvPr/>
        </p:nvSpPr>
        <p:spPr>
          <a:xfrm>
            <a:off x="380880" y="1219320"/>
            <a:ext cx="7620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icroseconds are in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seco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 1 x 10 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380880" y="3049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7F253-6978-4A5E-A746-0C35EE64BF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Content Placeholder 1"/>
          <p:cNvSpPr/>
          <p:nvPr/>
        </p:nvSpPr>
        <p:spPr>
          <a:xfrm>
            <a:off x="380880" y="6858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682B9-8DD3-4432-8EF6-B83E20E330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0" y="990720"/>
            <a:ext cx="896472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Code/Numb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em 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Instru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r. Nuha Waz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Assistant Professor of Physical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Office: Building 7 /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Floor/ Office 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Office hours: S.M.W.. 12-1 &amp; ...T.. 9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ebsite: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wazzan.kau.edu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mail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110_nwazzan@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C501D-C340-4B55-9971-7CA588FCE4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Content Placeholder 1"/>
          <p:cNvSpPr/>
          <p:nvPr/>
        </p:nvSpPr>
        <p:spPr>
          <a:xfrm>
            <a:off x="304920" y="609480"/>
            <a:ext cx="8229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 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.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0.0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 →  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2.1 x 10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omic Sans MS"/>
              </a:rPr>
              <a:t>-8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3232"/>
                </a:solidFill>
                <a:latin typeface="Comic Sans MS"/>
              </a:rPr>
              <a:t>Explana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though 2.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rgest number in this question, the units of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icometers) are the smallest units he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ing it the smallest d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03ABE-9577-4F78-8B1C-7E744BC622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560" y="457200"/>
            <a:ext cx="84582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diameter of an atom is approximately 1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m. What is this diameter when express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anometer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  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cccce6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76166-F910-474F-80DF-D7A570B757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04920" y="457200"/>
            <a:ext cx="807696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Which of these quantities represents the largest mas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.0010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666699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c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21F70-A796-4846-80A6-FC9A968A2F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28240" y="1066320"/>
            <a:ext cx="6629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Mass: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s the measure of the amount of matter i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omic Sans MS"/>
              </a:rPr>
              <a:t>SI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unit of mass is the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kilogram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(k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 kg = 1000 g = 1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Weight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is the measurement of the pull of gravity o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an object doesn't change when an object's location changes.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Weight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, on the other hand does change with locat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hemist are interested primarily in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01_03"/>
          <p:cNvPicPr/>
          <p:nvPr/>
        </p:nvPicPr>
        <p:blipFill>
          <a:blip r:embed="rId1"/>
          <a:srcRect l="0" t="0" r="20710" b="0"/>
          <a:stretch/>
        </p:blipFill>
        <p:spPr>
          <a:xfrm>
            <a:off x="6781680" y="533520"/>
            <a:ext cx="2133720" cy="2087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1600200" y="3733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weight = </a:t>
            </a:r>
            <a:r>
              <a:rPr b="0" i="1" lang="en-US" sz="2800" spc="-1" strike="noStrike">
                <a:solidFill>
                  <a:srgbClr val="9d3232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 x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791320" y="34290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The weight of man on earth is 5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is 8.25 pounds on mo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80880" y="3808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Mass and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E650E-BB43-4FDC-AAF8-07D05DD07CB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I Derived Unit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defined in terms of the seven base quantiti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system of quantity eq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Are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dth x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wid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leng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Area = m× m 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5267160" y="4648320"/>
            <a:ext cx="36691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eat units lik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04920" y="3808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I Derived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3276720" y="5638680"/>
            <a:ext cx="3276360" cy="990720"/>
          </a:xfrm>
          <a:prstGeom prst="wedgeRectCallout">
            <a:avLst>
              <a:gd name="adj1" fmla="val -3050"/>
              <a:gd name="adj2" fmla="val -1017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derived unit fo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5257800" y="3657600"/>
            <a:ext cx="2590920" cy="609480"/>
          </a:xfrm>
          <a:prstGeom prst="wedgeRectCallout">
            <a:avLst>
              <a:gd name="adj1" fmla="val -90504"/>
              <a:gd name="adj2" fmla="val 1900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Bas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373392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298A8-D86C-4F05-94C8-5F6B9E4356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2743200" y="414360"/>
            <a:ext cx="662940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= width × length × he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m × m × m 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050280" y="4114800"/>
            <a:ext cx="56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c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2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6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092400" y="4724280"/>
            <a:ext cx="56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d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1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2728800" cy="49528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9"/>
          <p:cNvSpPr/>
          <p:nvPr/>
        </p:nvSpPr>
        <p:spPr>
          <a:xfrm>
            <a:off x="3581280" y="2590920"/>
            <a:ext cx="5181840" cy="990360"/>
          </a:xfrm>
          <a:prstGeom prst="wedgeRectCallout">
            <a:avLst>
              <a:gd name="adj1" fmla="val 6708"/>
              <a:gd name="adj2" fmla="val -9599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ic meter (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is the SI derived unit fo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19815-DC9F-42D9-B046-5704239051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266760" y="338040"/>
            <a:ext cx="902952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 unit of volume is liter (L) and milliliter 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L= 10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L = 1d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ff0000"/>
                </a:solidFill>
                <a:latin typeface="Comic Sans MS"/>
              </a:rPr>
              <a:t>A liter: is the volume occupied by one cubic decimeter</a:t>
            </a:r>
            <a:r>
              <a:rPr b="1" lang="en-GB" sz="4400" spc="-1" strike="noStrike" baseline="30000">
                <a:solidFill>
                  <a:srgbClr val="ff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milliliter (m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mL = 1c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639EA-D2E6-4723-8D28-FD81B1000C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How many cubic centimeters are there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exactly one cubic meter?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70c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omic Sans MS"/>
              </a:rPr>
              <a:t>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1m 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(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80880" y="380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3C3E3-57F9-4E4A-AEEA-287EEE04F47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ensity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the amount of matter in a given amount of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             </a:t>
            </a: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SI derived unit for density is kg/m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995400" y="3048120"/>
            <a:ext cx="3034800" cy="779760"/>
            <a:chOff x="995400" y="3048120"/>
            <a:chExt cx="3034800" cy="779760"/>
          </a:xfrm>
        </p:grpSpPr>
        <p:sp>
          <p:nvSpPr>
            <p:cNvPr id="189" name="Text Box 4"/>
            <p:cNvSpPr/>
            <p:nvPr/>
          </p:nvSpPr>
          <p:spPr>
            <a:xfrm>
              <a:off x="995400" y="322920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density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"/>
            <p:cNvSpPr/>
            <p:nvPr/>
          </p:nvSpPr>
          <p:spPr>
            <a:xfrm>
              <a:off x="2833200" y="3048120"/>
              <a:ext cx="9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m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6"/>
            <p:cNvSpPr/>
            <p:nvPr/>
          </p:nvSpPr>
          <p:spPr>
            <a:xfrm>
              <a:off x="2680920" y="336816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volu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>
              <a:off x="2734920" y="343800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80880" y="349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Den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3001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26EEA-EB7E-449B-B3F6-DF9ABCE956D1}" type="slidenum">
              <a:t>28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Comic Sans MS"/>
              </a:rPr>
              <a:t>Density decrease with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ml  &amp; </a:t>
            </a:r>
            <a:r>
              <a:rPr b="0" lang="ar-SA" sz="3600" spc="-1" strike="noStrike">
                <a:solidFill>
                  <a:srgbClr val="700e2a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cm</a:t>
            </a:r>
            <a:r>
              <a:rPr b="0" lang="en-US" sz="3600" spc="-1" strike="noStrike" baseline="30000">
                <a:solidFill>
                  <a:srgbClr val="700e2a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 for liquid and sol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/L = 0.001 g/ml for gases (Because density of gases are very l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C5F03-E2F9-44CB-B821-0ABC6CE24F3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Required Textbook and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57200" y="2209680"/>
            <a:ext cx="6095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y: R. Chang, 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edi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cGraw Hill intern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andouts (PPt sl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_vv4-0" descr="http://i.ebayimg.com/21/!B)7q8lQ!Wk~$(KGrHqEOKnQEw8ojvO2CBMPkKfyHb!~~_12.JPG"/>
          <p:cNvPicPr/>
          <p:nvPr/>
        </p:nvPicPr>
        <p:blipFill>
          <a:blip r:embed="rId3"/>
          <a:stretch/>
        </p:blipFill>
        <p:spPr>
          <a:xfrm>
            <a:off x="6248520" y="2057400"/>
            <a:ext cx="281916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2511B-3DD3-48C7-AC81-0BA719EE75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Densit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75248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17524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289548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m &amp;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97180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m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 = m /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320184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V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 = d x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9B950-00AD-452B-9A84-0AE0EA4FD1E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0456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Gold metal has a volume o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15.6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, with a mass of 301 g  What 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its density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533520" y="482904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301g /  15.6 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19.3 g/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808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1 p19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9BA1F-FA6B-4307-8712-71C166ABDD1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3805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actice Exercise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platinum metal with a dens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of 21.5 g/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 has a volume of 4.49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3513240" y="411480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2764080" y="5715000"/>
            <a:ext cx="423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21.5 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x 4.49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96.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 flipV="1">
            <a:off x="411480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4"/>
          <p:cNvSpPr/>
          <p:nvPr/>
        </p:nvSpPr>
        <p:spPr>
          <a:xfrm flipV="1">
            <a:off x="609588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A74FE-E823-4F32-B86A-688E7F9CB9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0520" y="4269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2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The density of mercury is 13.6 g/mL h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volume of 5.50 mL.  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3513240" y="396252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2209680" y="54547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13.6 g/mL x 5.5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74.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 flipV="1">
            <a:off x="419112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4"/>
          <p:cNvSpPr/>
          <p:nvPr/>
        </p:nvSpPr>
        <p:spPr>
          <a:xfrm flipV="1">
            <a:off x="586728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695EB-AE09-46CC-B50E-BB3D33AD7CB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29080" y="1400040"/>
            <a:ext cx="2210040" cy="4335480"/>
            <a:chOff x="5329080" y="1400040"/>
            <a:chExt cx="2210040" cy="43354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5329080" y="1400040"/>
              <a:ext cx="204156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6838920" y="5209920"/>
              <a:ext cx="7002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7029360" y="520056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8186760" y="386712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3728880" y="1352520"/>
            <a:ext cx="86076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6929280" y="1628640"/>
            <a:ext cx="547920" cy="2633760"/>
            <a:chOff x="6929280" y="1628640"/>
            <a:chExt cx="547920" cy="2633760"/>
          </a:xfrm>
        </p:grpSpPr>
        <p:pic>
          <p:nvPicPr>
            <p:cNvPr id="225" name="" descr=""/>
            <p:cNvPicPr/>
            <p:nvPr/>
          </p:nvPicPr>
          <p:blipFill>
            <a:blip r:embed="rId6"/>
            <a:stretch/>
          </p:blipFill>
          <p:spPr>
            <a:xfrm>
              <a:off x="7143840" y="162864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7110360" y="316692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8"/>
            <a:stretch/>
          </p:blipFill>
          <p:spPr>
            <a:xfrm>
              <a:off x="6929280" y="3395520"/>
              <a:ext cx="4572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9"/>
            <a:stretch/>
          </p:blipFill>
          <p:spPr>
            <a:xfrm>
              <a:off x="7172280" y="4033800"/>
              <a:ext cx="3049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7116840" y="1371600"/>
            <a:ext cx="1312920" cy="4185720"/>
            <a:chOff x="7116840" y="1371600"/>
            <a:chExt cx="1312920" cy="4185720"/>
          </a:xfrm>
        </p:grpSpPr>
        <p:pic>
          <p:nvPicPr>
            <p:cNvPr id="230" name="" descr=""/>
            <p:cNvPicPr/>
            <p:nvPr/>
          </p:nvPicPr>
          <p:blipFill>
            <a:blip r:embed="rId10"/>
            <a:stretch/>
          </p:blipFill>
          <p:spPr>
            <a:xfrm>
              <a:off x="7388280" y="137160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1"/>
            <a:stretch/>
          </p:blipFill>
          <p:spPr>
            <a:xfrm>
              <a:off x="7116840" y="536724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"/>
          <p:cNvSpPr/>
          <p:nvPr/>
        </p:nvSpPr>
        <p:spPr>
          <a:xfrm>
            <a:off x="2362320" y="571500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Kelvin is the SI Base Unit of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44792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ff"/>
                </a:solidFill>
                <a:latin typeface="Comic Sans MS"/>
              </a:rPr>
              <a:t>These thermometers defined the Freezing Point (F.P.) &amp; the Boiling  Point (B.P.)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705FA-8135-4255-A127-E02FFD67A37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091200" y="2522520"/>
            <a:ext cx="2209320" cy="4335480"/>
            <a:chOff x="6091200" y="2522520"/>
            <a:chExt cx="2209320" cy="433548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6091200" y="2522520"/>
              <a:ext cx="204120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7600680" y="6332400"/>
              <a:ext cx="69984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7791480" y="632304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8948880" y="498960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4491000" y="2475000"/>
            <a:ext cx="86040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7691400" y="2751120"/>
            <a:ext cx="547200" cy="2633760"/>
            <a:chOff x="7691400" y="2751120"/>
            <a:chExt cx="547200" cy="2633760"/>
          </a:xfrm>
        </p:grpSpPr>
        <p:pic>
          <p:nvPicPr>
            <p:cNvPr id="242" name="" descr=""/>
            <p:cNvPicPr/>
            <p:nvPr/>
          </p:nvPicPr>
          <p:blipFill>
            <a:blip r:embed="rId6"/>
            <a:stretch/>
          </p:blipFill>
          <p:spPr>
            <a:xfrm>
              <a:off x="7905600" y="2751120"/>
              <a:ext cx="3042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7"/>
            <a:stretch/>
          </p:blipFill>
          <p:spPr>
            <a:xfrm>
              <a:off x="7872120" y="428940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8"/>
            <a:stretch/>
          </p:blipFill>
          <p:spPr>
            <a:xfrm>
              <a:off x="7691400" y="4518000"/>
              <a:ext cx="4568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9"/>
            <a:stretch/>
          </p:blipFill>
          <p:spPr>
            <a:xfrm>
              <a:off x="7934040" y="5156280"/>
              <a:ext cx="30456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"/>
          <p:cNvGrpSpPr/>
          <p:nvPr/>
        </p:nvGrpSpPr>
        <p:grpSpPr>
          <a:xfrm>
            <a:off x="7878600" y="2494080"/>
            <a:ext cx="1312920" cy="4185720"/>
            <a:chOff x="7878600" y="2494080"/>
            <a:chExt cx="1312920" cy="4185720"/>
          </a:xfrm>
        </p:grpSpPr>
        <p:pic>
          <p:nvPicPr>
            <p:cNvPr id="247" name="" descr=""/>
            <p:cNvPicPr/>
            <p:nvPr/>
          </p:nvPicPr>
          <p:blipFill>
            <a:blip r:embed="rId10"/>
            <a:stretch/>
          </p:blipFill>
          <p:spPr>
            <a:xfrm>
              <a:off x="8150040" y="249408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11"/>
            <a:stretch/>
          </p:blipFill>
          <p:spPr>
            <a:xfrm>
              <a:off x="7878600" y="648972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152280" y="1295280"/>
            <a:ext cx="85345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hree temperature scales, their units a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Degrees Celsius 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Degrees Fahrenheit </a:t>
            </a:r>
            <a:r>
              <a:rPr b="0" lang="en-US" sz="2800" spc="-1" strike="noStrike" baseline="30000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Kelvin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08FDB-1471-4F84-AC94-83B1C7212A3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Degrees Celsius </a:t>
            </a:r>
            <a:r>
              <a:rPr b="0" lang="en-GB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C:</a:t>
            </a:r>
            <a:r>
              <a:rPr b="0" lang="ar-SA" sz="3200" spc="-1" strike="noStrike">
                <a:solidFill>
                  <a:srgbClr val="9999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 Scale 0 </a:t>
            </a:r>
            <a:r>
              <a:rPr b="0" lang="en-GB" sz="3200" spc="-1" strike="noStrike">
                <a:solidFill>
                  <a:srgbClr val="9999ff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100 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Kelvin K: Scale 273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3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1K = 1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egrees Fahrenheit 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ar-SA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Scale from 32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2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Thus: 180 divisions or 18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hus: the size of degree in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scale is only 100/180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5/9 of a degree on the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 scale</a:t>
            </a:r>
            <a:r>
              <a:rPr b="0" lang="ar-SA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= (5/9)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8A862-A198-40D1-A117-0D14724CDEE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 °C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+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-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Fahrenheit °F →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or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= [ (9/5) ×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] + 3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= (5/9) (</a:t>
            </a:r>
            <a:r>
              <a:rPr b="1" lang="fr-FR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- 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o relatationship betw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         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      </a:t>
            </a: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      °F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hus: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1600200"/>
            <a:ext cx="2971800" cy="1143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733920"/>
            <a:ext cx="3886200" cy="990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6248520"/>
            <a:ext cx="2362320" cy="457200"/>
          </a:xfrm>
          <a:prstGeom prst="wedgeRectCallout">
            <a:avLst>
              <a:gd name="adj1" fmla="val -25805"/>
              <a:gd name="adj2" fmla="val -74305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6248520"/>
            <a:ext cx="2438280" cy="457200"/>
          </a:xfrm>
          <a:prstGeom prst="wedgeRectCallout">
            <a:avLst>
              <a:gd name="adj1" fmla="val 523"/>
              <a:gd name="adj2" fmla="val -83333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378ED-1C5C-4A69-9072-BBFB83FEDEC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088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(a) Convert 224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F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 </a:t>
            </a:r>
            <a:r>
              <a:rPr b="0" lang="de-DE" sz="2800" spc="-1" strike="noStrike">
                <a:solidFill>
                  <a:srgbClr val="00007d"/>
                </a:solidFill>
                <a:latin typeface="Comic Sans MS"/>
              </a:rPr>
              <a:t>]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[°F = (9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22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b) Convert -452 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F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°F 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452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= -269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c) Convert 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-38.9 </a:t>
            </a:r>
            <a:r>
              <a:rPr b="0" lang="en-US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K =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38.9 </a:t>
            </a:r>
            <a:r>
              <a:rPr b="0" lang="fi-FI" sz="3200" spc="-1" strike="noStrike">
                <a:solidFill>
                  <a:srgbClr val="9999ff"/>
                </a:solidFill>
                <a:latin typeface="Comic Sans MS"/>
              </a:rPr>
              <a:t>°C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+ 273.15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= 234.3 </a:t>
            </a:r>
            <a:r>
              <a:rPr b="0" lang="fi-FI" sz="3200" spc="-1" strike="noStrike">
                <a:solidFill>
                  <a:srgbClr val="00007d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1.3 p20 &amp; 21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F22CA-9B7F-4472-88EF-CD90FD6528E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33520" y="457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 Ammonia boils at -33.4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C. Wh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temperature is this in 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F? 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60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92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(c)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-28.1</a:t>
            </a:r>
            <a:r>
              <a:rPr b="0" lang="en-US" sz="3100" spc="-1" strike="noStrike">
                <a:solidFill>
                  <a:srgbClr val="0070c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+13.5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57200" y="4876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]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-33.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5E63B-045C-4500-BCF5-351DA129BD4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ourse Gr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04920" y="1295280"/>
            <a:ext cx="8588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exams during the te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irst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 1-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 Chapters 1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econd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12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hapters 5,7-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0e2a"/>
                </a:solidFill>
                <a:latin typeface="Comic Sans MS"/>
              </a:rPr>
              <a:t>Final term exam 40 marks </a:t>
            </a: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from lecture 1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(Chapters 1,2,3,4,5,7,8,9,10,14,15,24,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N for 25% absence according to college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FBA14-B2EA-4843-BFB1-1CD411A0A0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81080" y="198108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7B95D-8A4C-43C9-B48C-8B85D5BE871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762120" y="2666880"/>
            <a:ext cx="70866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ges 16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mework  Page 32 &amp; 3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17,1.22,1.23,1.25,1.26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219320" y="10494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A6936-A92B-44A2-8AB9-84F76A9F19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95120" y="1267920"/>
            <a:ext cx="6248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99ff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6633"/>
                </a:solidFill>
                <a:latin typeface="Comic Sans MS"/>
              </a:rPr>
              <a:t>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SI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Pre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Units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rive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Mass and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Temperature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57200" y="363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 The Study of Change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DCBAA-7178-47DB-AEA7-8570F617AF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0"/>
          <p:cNvSpPr/>
          <p:nvPr/>
        </p:nvSpPr>
        <p:spPr>
          <a:xfrm>
            <a:off x="3808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4412" r="0" b="0"/>
          <a:stretch/>
        </p:blipFill>
        <p:spPr>
          <a:xfrm>
            <a:off x="304920" y="2351160"/>
            <a:ext cx="8458200" cy="3516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320" y="16002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Comic Sans MS"/>
              </a:rPr>
              <a:t>Ma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644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i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7BC7A-22C3-4F11-BDE9-F4953C25C5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str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study of matter and the changes it underg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ter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nything that occupies space and has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bstanc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form of matter that has a definite composition and distinct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380880" y="38088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50873-0210-42C5-93A8-5C6CB31B8D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088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three stat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2"/>
          <p:cNvGrpSpPr/>
          <p:nvPr/>
        </p:nvGrpSpPr>
        <p:grpSpPr>
          <a:xfrm>
            <a:off x="1371600" y="1905120"/>
            <a:ext cx="6095520" cy="4647600"/>
            <a:chOff x="1371600" y="1905120"/>
            <a:chExt cx="6095520" cy="4647600"/>
          </a:xfrm>
        </p:grpSpPr>
        <p:pic>
          <p:nvPicPr>
            <p:cNvPr id="133" name="Picture 8" descr="01_07"/>
            <p:cNvPicPr/>
            <p:nvPr/>
          </p:nvPicPr>
          <p:blipFill>
            <a:blip r:embed="rId1"/>
            <a:srcRect l="13542" t="2780" r="14581" b="0"/>
            <a:stretch/>
          </p:blipFill>
          <p:spPr>
            <a:xfrm>
              <a:off x="1371600" y="1905120"/>
              <a:ext cx="6095520" cy="46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9"/>
            <p:cNvSpPr/>
            <p:nvPr/>
          </p:nvSpPr>
          <p:spPr>
            <a:xfrm>
              <a:off x="5961240" y="57002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0"/>
            <p:cNvSpPr/>
            <p:nvPr/>
          </p:nvSpPr>
          <p:spPr>
            <a:xfrm>
              <a:off x="1532160" y="549324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4890960" y="194760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0880" y="380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tat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1F67B-DF02-457A-B9B5-A8BA1FA8EA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1-31T20:09:25Z</dcterms:modified>
  <cp:revision>218</cp:revision>
  <dc:subject/>
  <dc:title>General Chemistry CHEM 110</dc:title>
</cp:coreProperties>
</file>